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4C3-4700-410D-86B6-873CFF36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BD2-5ED9-41DB-BCB8-2FE9F5C4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2C3-CB31-4B75-8EA2-08968762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6FF-F611-41E4-B16D-F8D940C6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F83-2D86-4B87-9767-EAF46CCB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213-4E13-444A-BE82-622BA6F7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E4E-3D80-436B-BD63-5EC7FB70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3DF-6600-46E5-9516-F49414A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0A4-8391-47BB-B26C-F5B57370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C65-81CE-4194-9E5B-27B2F026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C8F-3A28-4C7F-B8B7-651B98CF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825-800F-4794-9BD2-DFAEFC7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0F1-E6AB-4EDC-8AE8-14F6611D2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19051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itions and Trut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se, Inverse, Contrapos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di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sleeping, then you are breath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2824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the proposi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not breathing, then you are not sleep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28600" y="22860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breathing, then you are sleep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28600" y="304812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not sleeping, then you are not breath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converse, inverse and contraposi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di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If the sun is shining, then it is warm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24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the proposi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28600" y="22860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286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 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and q be propositions.  The biconditional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oposition that is true when p and q hav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me truth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s false otherwise. “p if and only if q, p is necessary and sufficient for q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838080" y="2286000"/>
            <a:ext cx="3429000" cy="3738600"/>
            <a:chOff x="838080" y="2286000"/>
            <a:chExt cx="3429000" cy="3738600"/>
          </a:xfrm>
        </p:grpSpPr>
        <p:sp>
          <p:nvSpPr>
            <p:cNvPr id="115" name="Rectangle 5"/>
            <p:cNvSpPr/>
            <p:nvPr/>
          </p:nvSpPr>
          <p:spPr>
            <a:xfrm>
              <a:off x="838080" y="2286000"/>
              <a:ext cx="3429000" cy="373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838080" y="335772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2590920" y="33577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838080" y="41958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914400" y="251460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 6. The Truth Table for the biconditional p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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990720" y="35100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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1066680" y="426708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portant technique in proofs is to replace a statement with another statement that is “logically equivalen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utolog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und proposition that is always true regardless of the truth values of the propositions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dic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und proposition that is always false regardless of the truth values of the propositions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ly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propositions P and Q are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ogically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is a tautology.  In other words, P and Q hav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me truth 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combinations of truth values of simple proposi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denoted: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Q (or by P   Q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172200" y="4648320"/>
                <a:ext cx="3049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838080" y="19051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Makes a claim that may be either true or false; it must have the structure of a complet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066680" y="1219320"/>
            <a:ext cx="54104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e these propositions?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 mountain and through the w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ples are fr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ick, brown f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+ 3 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4008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58128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8620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8954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438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on of 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be a proposition.  The statement “It is not the case that p” is also a proposition, called the “negation of p” or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ad “not p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4800600" y="2209680"/>
            <a:ext cx="3429000" cy="3505320"/>
            <a:chOff x="4800600" y="2209680"/>
            <a:chExt cx="3429000" cy="3505320"/>
          </a:xfrm>
        </p:grpSpPr>
        <p:sp>
          <p:nvSpPr>
            <p:cNvPr id="52" name="Rectangle 5"/>
            <p:cNvSpPr/>
            <p:nvPr/>
          </p:nvSpPr>
          <p:spPr>
            <a:xfrm>
              <a:off x="4800600" y="2209680"/>
              <a:ext cx="3429000" cy="3505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4800600" y="342900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6553080" y="342900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4800600" y="42670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4880880" y="2357280"/>
              <a:ext cx="27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 1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Truth Table for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ation of a Pro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5257800" y="3581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5223600" y="4357800"/>
              <a:ext cx="225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 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  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Text Box 12"/>
          <p:cNvSpPr/>
          <p:nvPr/>
        </p:nvSpPr>
        <p:spPr>
          <a:xfrm>
            <a:off x="304920" y="4343400"/>
            <a:ext cx="4114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The sky is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It is not the case that the sky is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The sky is not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junction of p an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: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and q be propositions.  The proposition “p and q,” denoted by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 when both p and q are true and is false otherwise.  This is called the conjunction of p and 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4724280" y="2209680"/>
            <a:ext cx="3429000" cy="3738600"/>
            <a:chOff x="4724280" y="2209680"/>
            <a:chExt cx="3429000" cy="3738600"/>
          </a:xfrm>
        </p:grpSpPr>
        <p:sp>
          <p:nvSpPr>
            <p:cNvPr id="63" name="Rectangle 5"/>
            <p:cNvSpPr/>
            <p:nvPr/>
          </p:nvSpPr>
          <p:spPr>
            <a:xfrm>
              <a:off x="4724280" y="2209680"/>
              <a:ext cx="3429000" cy="373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"/>
            <p:cNvSpPr/>
            <p:nvPr/>
          </p:nvSpPr>
          <p:spPr>
            <a:xfrm>
              <a:off x="4724280" y="328140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6477120" y="328140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8"/>
            <p:cNvSpPr/>
            <p:nvPr/>
          </p:nvSpPr>
          <p:spPr>
            <a:xfrm>
              <a:off x="4724280" y="41194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4800600" y="2209680"/>
              <a:ext cx="320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 2. The Truth Table for the Conjunction of two propos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4876920" y="34336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4952880" y="419112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junction of p and q: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and q be propositions.  The proposition “p or q,” denoted by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the proposition that is false when p and q are both false and true otherwi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685800" y="2286000"/>
            <a:ext cx="3429000" cy="3738600"/>
            <a:chOff x="685800" y="2286000"/>
            <a:chExt cx="3429000" cy="3738600"/>
          </a:xfrm>
        </p:grpSpPr>
        <p:sp>
          <p:nvSpPr>
            <p:cNvPr id="73" name="Rectangle 5"/>
            <p:cNvSpPr/>
            <p:nvPr/>
          </p:nvSpPr>
          <p:spPr>
            <a:xfrm>
              <a:off x="685800" y="2286000"/>
              <a:ext cx="3429000" cy="373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685800" y="335772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2438280" y="33577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685800" y="41958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762120" y="2286000"/>
              <a:ext cx="320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 3. The Truth Table for the Disjunction of two propos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838080" y="35100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914400" y="426708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066680" y="2057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VE OR means “either or b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VE OR means “one or the other, but not b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junction of p and q: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85800" y="2286000"/>
            <a:ext cx="3429000" cy="3738600"/>
            <a:chOff x="685800" y="2286000"/>
            <a:chExt cx="3429000" cy="3738600"/>
          </a:xfrm>
        </p:grpSpPr>
        <p:sp>
          <p:nvSpPr>
            <p:cNvPr id="84" name="Rectangle 5"/>
            <p:cNvSpPr/>
            <p:nvPr/>
          </p:nvSpPr>
          <p:spPr>
            <a:xfrm>
              <a:off x="685800" y="2286000"/>
              <a:ext cx="3429000" cy="373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685800" y="335772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7"/>
            <p:cNvSpPr/>
            <p:nvPr/>
          </p:nvSpPr>
          <p:spPr>
            <a:xfrm>
              <a:off x="2438280" y="33577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685800" y="41958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762120" y="228600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CLUSIVE OR means “either or both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838080" y="35100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914400" y="426708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"/>
          <p:cNvGrpSpPr/>
          <p:nvPr/>
        </p:nvGrpSpPr>
        <p:grpSpPr>
          <a:xfrm>
            <a:off x="4572000" y="2286000"/>
            <a:ext cx="3429000" cy="3733560"/>
            <a:chOff x="4572000" y="2286000"/>
            <a:chExt cx="3429000" cy="3733560"/>
          </a:xfrm>
        </p:grpSpPr>
        <p:sp>
          <p:nvSpPr>
            <p:cNvPr id="92" name="Rectangle 5"/>
            <p:cNvSpPr/>
            <p:nvPr/>
          </p:nvSpPr>
          <p:spPr>
            <a:xfrm>
              <a:off x="4572000" y="2286000"/>
              <a:ext cx="3429000" cy="3729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4572000" y="3356280"/>
              <a:ext cx="3429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7"/>
            <p:cNvSpPr/>
            <p:nvPr/>
          </p:nvSpPr>
          <p:spPr>
            <a:xfrm>
              <a:off x="6324480" y="3356280"/>
              <a:ext cx="0" cy="26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4572000" y="41932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4648320" y="228600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LUSIVE OR means “one or the other, but not both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4724280" y="35082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q         p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4800600" y="426456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T            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     F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T        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     F        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, then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mpli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,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only if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sufficient for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if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whenever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is necessary for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ition p = antece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ition q = conseq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23:47:51Z</dcterms:created>
  <dc:creator>George Burdell</dc:creator>
  <dc:description/>
  <dc:language>en-US</dc:language>
  <cp:lastModifiedBy>Salem High School</cp:lastModifiedBy>
  <dcterms:modified xsi:type="dcterms:W3CDTF">2011-09-07T12:37:32Z</dcterms:modified>
  <cp:revision>18</cp:revision>
  <dc:subject/>
  <dc:title>PowerPoint Presentation</dc:title>
</cp:coreProperties>
</file>